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4B7-6B13-4F40-959E-A02F1356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887-521F-4962-A41D-D64A748A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015-C485-4998-B6D0-70AAC87C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FC4-A4DB-4F1C-9524-71EC2C79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6AD-9553-445E-A567-B199F93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5F1-5B06-4C43-883B-1EF7CFEC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94B-A4DB-4889-A160-4757DB1C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6AD-BE14-40A1-81F2-A7FE9F23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294-6BF1-4F5E-92EC-5B451E4F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705-C7C9-44E6-9B13-F4B8007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E32-D352-4DDD-99A8-BF856FB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F7C-C113-453F-8D28-2A0A15E0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AEF2-FF65-4F7B-A4F2-9A39B1552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te taking in Resear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ve sourc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least one 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non-print source (online journals, newspaper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ore than one web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urce Cards or Source Shee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F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, period, teacher in left-hand cor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tter assigned to the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needed for Works Cited page (See MLA handou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mple Source Car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nes, Pau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r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lb, Norman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erlin W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New York: Dorset Press, 198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mple Note Car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nes, Pau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 A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vel between east and west prohib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constructed August 12, 196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of coffee four times higher in E. Germ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2:00:28Z</dcterms:created>
  <dc:creator>CNS- Hardware Group</dc:creator>
  <dc:description/>
  <dc:language>en-US</dc:language>
  <cp:lastModifiedBy>CNS- Hardware Group</cp:lastModifiedBy>
  <dcterms:modified xsi:type="dcterms:W3CDTF">2009-04-10T19:17:46Z</dcterms:modified>
  <cp:revision>2</cp:revision>
  <dc:subject/>
  <dc:title>Note taking in Research</dc:title>
</cp:coreProperties>
</file>